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D657-FFF6-4AEC-8592-1F6BD344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3BD8-CC6F-4685-AB5E-28E517E2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A5F-700C-4210-9E06-BAA6D061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C16-0B12-4DDB-AD42-70178253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A1A-0133-446E-BB89-A1418418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A50-B809-40B2-9F69-A7C4E5FF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3C1-9929-4080-90D2-F2BC455E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D907-BA46-4866-A80D-ED781D9D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4B8-F3EA-43EC-9978-A433613B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D6A-3838-468B-B8CC-18D53080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08C-53C4-4E23-AE23-FB7AAF4A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55D-5BD2-4369-A6A0-5F9C7D3F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78FE-4C9C-402F-882C-20A2B1E6E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18228878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nkpen2 Script"/>
              </a:rPr>
              <a:t>Let Creation S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68321" dir="20281825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he whole ear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Overflow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th Your Pow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And Your Gl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here is no one like You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here is no one like You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Mountains b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Nations trem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At Your feet we cry Ho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here is no one like You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here is no one like You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63360" dir="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t creation 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of the risen 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t the universe re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th a shout of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e will give to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All the highest prai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t Your light Shine upon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t Your light Shine upon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For the Glory of Your na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ll be shown through all you’ve ma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63360" dir="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t creation 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of the risen 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t the universe re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th a shout of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e will give to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All the highest praise      </a:t>
            </a:r>
            <a:r>
              <a:rPr b="0" i="1" lang="en-US" sz="3600" spc="-1" strike="noStrike">
                <a:solidFill>
                  <a:srgbClr val="ffffff"/>
                </a:solidFill>
                <a:latin typeface="Franklin Gothic Medium"/>
              </a:rPr>
              <a:t>(2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Forever, Forever I'll 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Forever, Forever I'll sing              </a:t>
            </a:r>
            <a:r>
              <a:rPr b="0" i="1" lang="en-US" sz="3600" spc="-1" strike="noStrike">
                <a:solidFill>
                  <a:srgbClr val="ffffff"/>
                </a:solidFill>
                <a:latin typeface="Franklin Gothic Medium"/>
              </a:rPr>
              <a:t>3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095880"/>
          </a:xfrm>
          <a:prstGeom prst="rect">
            <a:avLst/>
          </a:prstGeom>
          <a:noFill/>
          <a:ln w="0">
            <a:noFill/>
          </a:ln>
          <a:effectLst>
            <a:outerShdw dist="63360" dir="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t creation 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of the risen 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t the universe re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th a shout of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e will give to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All the highest praise      </a:t>
            </a:r>
            <a:r>
              <a:rPr b="0" i="1" lang="en-US" sz="3600" spc="-1" strike="noStrike">
                <a:solidFill>
                  <a:srgbClr val="ffffff"/>
                </a:solidFill>
                <a:latin typeface="Franklin Gothic Medium"/>
              </a:rPr>
              <a:t>(2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Forever, Forever I'll 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Forever, Forever I'll sing       </a:t>
            </a:r>
            <a:r>
              <a:rPr b="0" i="1" lang="en-US" sz="3600" spc="-1" strike="noStrike">
                <a:solidFill>
                  <a:srgbClr val="ffffff"/>
                </a:solidFill>
                <a:latin typeface="Franklin Gothic Medium"/>
              </a:rPr>
              <a:t>(ou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23:09:10Z</dcterms:created>
  <dc:creator>Peter Rivezzo</dc:creator>
  <dc:description/>
  <dc:language>en-US</dc:language>
  <cp:lastModifiedBy>Shoreline</cp:lastModifiedBy>
  <dcterms:modified xsi:type="dcterms:W3CDTF">2010-03-14T19:24:38Z</dcterms:modified>
  <cp:revision>4</cp:revision>
  <dc:subject/>
  <dc:title>Slide 1</dc:title>
</cp:coreProperties>
</file>